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083-7F3A-4E23-8454-A497AA50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C68-8A35-4D58-BCDB-0888905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BC8-BDC3-48E0-BE9B-3F0EDB0C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64E-AF1D-4040-B81D-7FA74C5D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CD20-47D7-4A23-A7A5-D980AF86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070C-32A5-4920-B732-0E302BC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8113-837A-4CB9-823A-22F2453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B2E-BA37-470C-A237-5542C24C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2DA9-64B6-4431-B02C-DEFCD3A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E063-251A-4BF9-BFCF-6496B41B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03E2-8A38-4CF2-800B-992D946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5A7-F7CC-4E41-843C-56CB1321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8B3E-D4A9-4E9E-A808-DEFF43F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E8CB-8302-41B1-B41B-A748971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DA1C-FA66-4CE5-B531-7938797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A8A7-AAF2-41AC-AAC9-170DAADE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AF2-81D4-46A0-A406-AEC8DFD1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CFC-61D5-4EAD-B9F7-B17D34B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9FF-8657-4B37-83DB-20B2088B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F9A-DB84-419A-A7E8-27B5D1BE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BD1-2E0B-4A77-B706-80755D5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89D-F54D-40C8-AA11-E46B21CB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690-C3E4-48A4-B8CF-B146868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774-9E5F-4AC6-82E8-ADFE38A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7D5-C899-41ED-BCD6-8810C751E7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3760"/>
              <a:chOff x="-3240" y="2479680"/>
              <a:chExt cx="9146880" cy="10137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080"/>
                <a:ext cx="9892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840" y="278424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880" y="275004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320" y="2696040"/>
                <a:ext cx="9892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000" y="2742480"/>
                <a:ext cx="10018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4060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800" y="2776320"/>
                <a:ext cx="9892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9680" y="2742120"/>
                <a:ext cx="9892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000" y="2690280"/>
                <a:ext cx="9889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840" y="2730600"/>
                <a:ext cx="10018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9240"/>
                <a:ext cx="9892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8520"/>
                <a:ext cx="9892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960" y="2776320"/>
                <a:ext cx="9892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7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3160" y="2690280"/>
                <a:ext cx="9889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000" y="2730600"/>
                <a:ext cx="10018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E4A-ECBF-4BA9-8B86-6EDB19BD2B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LAS NUEVAS TECNOLOGÍAS EN INVESTIGACIÓN DEL MEDIO AMBIENTE</a:t>
            </a:r>
            <a:br>
              <a:rPr sz="7200"/>
            </a:b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Funciones que realiza un SI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ptura de datos: datos numéricos y cartograf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gestión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ración de docum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espacial. Función más característ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8" descr=""/>
          <p:cNvPicPr/>
          <p:nvPr/>
        </p:nvPicPr>
        <p:blipFill>
          <a:blip r:embed="rId1"/>
          <a:stretch/>
        </p:blipFill>
        <p:spPr>
          <a:xfrm>
            <a:off x="685800" y="214200"/>
            <a:ext cx="8458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Utilización de los SI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ursos naturales: inventariado, distribución, tendencias en su explotació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ividades antrópicas e impacto ambiental derivado (E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iesgos naturales: cartografía, predicción y prev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ificación de ecosistemas o bi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G GEOLOG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6429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177588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Sistemas telemétric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6676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lemetría: conjunto de técnicas que permiten facilitar la transmisión de datos de diversa naturaleza utilizando diferentes medios : fibra óptica, vía satélite, telefon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s tipos: 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teledetección y posi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SISTEMAS DE TELEDETE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cción remota a través de sens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ledetección: técnica que permite la observación a distancia y la obtención de imágenes de la superficie desde sensores en aviones o satél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7324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la teledetección se obtienen datos de gran utilidad práctica, y en el aspecto medioambiental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stituyen la base para la confección de cartografías temáticas, inventarios de recursos naturales y evaluación de los riesgos e impa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OMPONENTES DE UN SISTEMA DE TELEDET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SENSOR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ámaras situadas en aviones o satélites (+800k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función de la ENERGÍA DETECTAD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fuente de emis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s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pta energía externo al sensor, del sol o emitida por elementos terres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mite energía y capta el reflejo producido por la superficie terr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CENTRO DE RECEP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transmite información digital a la tierra. Se corrige imperfecciones y se destacan algunos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cc"/>
                </a:solidFill>
                <a:uFillTx/>
                <a:latin typeface="Arial"/>
              </a:rPr>
              <a:t>SISTEMA DE DISTRIBUCIÓN</a:t>
            </a:r>
            <a:r>
              <a:rPr b="0" lang="es-ES" sz="2400" spc="-1" strike="noStrike">
                <a:solidFill>
                  <a:srgbClr val="0099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canismos de la teledete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4046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Órbitas de los satél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eoestacionaria: El satélite está situado a gran altitud, siempre sobre el mismo punto, moviéndose de forma sincronizada con la rotación de la Ti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Órbita polar: El satélite rota de forma circular pasando por los polos a baja a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5219640" y="2744640"/>
            <a:ext cx="39243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ADIACIONES ELECTROMAGNÉ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tmósfera es un filtro para las radi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ólo se utilizan aquellas radiacione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raviesan la atmósfera 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entanas atmosf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71640" y="3429000"/>
            <a:ext cx="81723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Times New Roman"/>
              </a:rPr>
              <a:t>SISTEMAS INFORMÁTICOS Y SIMULACIÓN MEDIOAMBIENT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6927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grandes problemas de información medioambiental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ingente cantidad datos, que precisa una monitorización  y adquisición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gran heterogeneidad, ya que incluyen variables de todo tipo, a lo que se suman proyectos , legislaciones, program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u localización dispersa, tanto en tiempo como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58560" y="4508280"/>
            <a:ext cx="67690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Un  EIS es, por tanto, un conjunto de mecanismos y procesos mediante los que se recopila y jerarquiza la información ambiental, procesándola convenientemente y transmitiéndola al usuario para su 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IMÁGENES DE TELEDETE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440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as imágenes: Están divididas en pequeños recuadros (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ixel)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es la superficie mínima detectada. Tiene asociado un valor, cifra o dígi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olución de un sensor: Es la medida de su capacidad para discriminar los detal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 Resolución espacial. Tamaño del píxel y representa el área menor que puede distinguirse de su ento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214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adrid"/>
          <p:cNvPicPr/>
          <p:nvPr/>
        </p:nvPicPr>
        <p:blipFill>
          <a:blip r:embed="rId1"/>
          <a:stretch/>
        </p:blipFill>
        <p:spPr>
          <a:xfrm>
            <a:off x="1954080" y="-533520"/>
            <a:ext cx="543744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258920" y="259920"/>
            <a:ext cx="7129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agen radar del Envisat del derrame de crudo del 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Ex_envisat_021117_1045"/>
          <p:cNvPicPr/>
          <p:nvPr/>
        </p:nvPicPr>
        <p:blipFill>
          <a:blip r:embed="rId1"/>
          <a:stretch/>
        </p:blipFill>
        <p:spPr>
          <a:xfrm>
            <a:off x="2050920" y="1484280"/>
            <a:ext cx="6193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324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cursos naturales e impactos ambientales (cultivos, bosques, erosión, incendios, contaminación agua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rtografía geológica (Relieve, recursos naturale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ación territorial (redes viarias, núcleos de población, desarrollo urbanístic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Utilización de satél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lit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entíficos (Image, Soh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eorológicos (Meteos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oambientales (Landsat, Envisat, Er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mágenes del ENVIS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735200" y="1981080"/>
            <a:ext cx="268596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173560" y="198108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71600" y="500040"/>
            <a:ext cx="77724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ágenes estereoscópicas: son dos imágenes realizadas del mismo punto, desde diferentes puntos. Se ve una imagen tridimensio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posición de imagen"/>
          <p:cNvSpPr/>
          <p:nvPr/>
        </p:nvSpPr>
        <p:spPr>
          <a:xfrm>
            <a:off x="1214280" y="-928800"/>
            <a:ext cx="548640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1714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osicionamiento y naveg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166760" y="3571560"/>
            <a:ext cx="64008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satélites de navegación tienen la finalidad básica de determinar con la mayor exactitud posible, la localización de un receptor en la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GPS :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stema de posicionamiento glob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formado por unos aparatos que nos permiten conocer nuestra posición exacta sobre la superficie terrestre, gracias a la triangulación de las señales emitidas por satéli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INTRO02"/>
          <p:cNvPicPr/>
          <p:nvPr/>
        </p:nvPicPr>
        <p:blipFill>
          <a:blip r:embed="rId1"/>
          <a:stretch/>
        </p:blipFill>
        <p:spPr>
          <a:xfrm>
            <a:off x="4343400" y="2057400"/>
            <a:ext cx="4800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Times New Roman"/>
              </a:rPr>
              <a:t>Naturaleza de la información medioambient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medioambiental se concreta,  básicamente, en tres categor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edioambientales: cualquier tipo de entidad física del planeta (rios, bosqu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to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objetos medioambientales: atributos físicos, químicos y matemáticos que describen los objetos medioambi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da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mbientales: información que localiza, reúne, organiza, clasifica y jerarquiza los objetos medioambientales Ej. Organismo que los estu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istemas G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tres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PS (Sistema de posicionamiento estan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PS (Sistema de posicionamiento preciso). Uso mili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PGS (GPS diferencial). Carret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plicaciones de los GP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áfico aé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flotas de vehículos terre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vegación marí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antamientos topo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ización de bancos de pesca o recursos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aplicación de fitosanitarios y fertiliz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142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7324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calización, búsqueda y res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imiento de iceber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submar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aboración y actualización de cart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stión de espacios proteg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marcación de zonas que han sufrido impacto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tografía de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faunísticos, botánicos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áginas WEB interes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208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Nacional de Meteorologí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web/infmet/satel/meteo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6600cc"/>
                </a:solidFill>
                <a:latin typeface="Arial"/>
              </a:rPr>
              <a:t>http://www.inm.es/web/infmet/radar/rada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ágina de búsqueda imágenes de cualquier lugar del mu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earth.googl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encia europea del medio amb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eea.eu.int/main_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Geográfico 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fomento.es/MFOM/LANG_CASTELLANO/DIRECCIONES_GENERALES/INSTITUTO_GEOGRAFICO/Teledeteccion/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as pági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recursos.gabrielortiz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allmetsa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landsa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17440" y="600120"/>
            <a:ext cx="6907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1654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Sistemas telemático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modelado ambi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142920"/>
            <a:ext cx="77724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La telemá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7324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 básico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lazar cualquier información que se encuentre en una red informática y permitir la comunicación a nivel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sistema telemático compren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equipos infor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fuente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27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istemas de comunicación que enlazan los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Func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tener datos medioambientales y meta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poner de bibliotecas vir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eder a instituciones pública, organizaciones gubernamentales y no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poner de proyectos, cartografía, tesis….medio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rogramas mas importa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nivel mundial: GOSIC, U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nivel Europeo: CORINE, EEA,I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857160" y="3143160"/>
            <a:ext cx="43578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los programas que recopilan, organizan y difunden información ambiental está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 Vigilancia Ambiental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FOT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I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MM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la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Red EIONET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paña: la información medioambiental de nuestro país se centraliza en el Ministerio de Medio Ambiente, a través del Sistema de Información Globlal del Medio Ambiente (SIGMA), el Sistema Español de Indicadores Ambientales y sus bases de datos y fo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Sistemas telemáticos apoyados en la teledete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5105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 ( sistemas de información geográfica)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programas informáticos que contienen una gran cantidad de datos de una zona organizados en cap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se de datos con información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gestionar fácilmente toda la información sobre un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5767560" y="1447920"/>
            <a:ext cx="3178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14800" y="1285920"/>
            <a:ext cx="4143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Componentes de un SI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junto de variables tomadas por observación y medición. Pueden ser geográficos (posición, dimensiones, formas…) o atributos (describen sus propiedad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informático de gestión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generación de informes alfanuméricos (listados, gráficas, fichas…) y cartograf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Definición de SIG</a:t>
            </a:r>
            <a:r>
              <a:rPr b="0" lang="es-ES_tradnl" sz="2800" spc="-1" strike="noStrike" u="sng">
                <a:solidFill>
                  <a:srgbClr val="ffff23"/>
                </a:solidFill>
                <a:uFillTx/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838080" y="304920"/>
            <a:ext cx="7391520" cy="35856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8"/>
          <p:cNvSpPr/>
          <p:nvPr/>
        </p:nvSpPr>
        <p:spPr>
          <a:xfrm>
            <a:off x="3048120" y="2743200"/>
            <a:ext cx="3047760" cy="2743200"/>
          </a:xfrm>
          <a:custGeom>
            <a:avLst/>
            <a:gdLst/>
            <a:ahLst/>
            <a:rect l="l" t="t" r="r" b="b"/>
            <a:pathLst>
              <a:path w="3048000" h="2743200">
                <a:moveTo>
                  <a:pt x="3" y="1047806"/>
                </a:moveTo>
                <a:lnTo>
                  <a:pt x="1164239" y="1047814"/>
                </a:lnTo>
                <a:lnTo>
                  <a:pt x="1524000" y="0"/>
                </a:lnTo>
                <a:lnTo>
                  <a:pt x="1883761" y="1047814"/>
                </a:lnTo>
                <a:lnTo>
                  <a:pt x="3047997" y="1047806"/>
                </a:lnTo>
                <a:lnTo>
                  <a:pt x="2106106" y="1695384"/>
                </a:lnTo>
                <a:lnTo>
                  <a:pt x="2465882" y="2743193"/>
                </a:lnTo>
                <a:lnTo>
                  <a:pt x="1524000" y="2095604"/>
                </a:lnTo>
                <a:lnTo>
                  <a:pt x="582118" y="2743193"/>
                </a:lnTo>
                <a:lnTo>
                  <a:pt x="941894" y="1695384"/>
                </a:lnTo>
                <a:lnTo>
                  <a:pt x="3" y="104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30" descr="BD06662_"/>
          <p:cNvPicPr/>
          <p:nvPr/>
        </p:nvPicPr>
        <p:blipFill>
          <a:blip r:embed="rId1"/>
          <a:stretch/>
        </p:blipFill>
        <p:spPr>
          <a:xfrm>
            <a:off x="3675240" y="1676520"/>
            <a:ext cx="1793520" cy="15872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032"/>
          <p:cNvSpPr/>
          <p:nvPr/>
        </p:nvSpPr>
        <p:spPr>
          <a:xfrm>
            <a:off x="6172200" y="3429000"/>
            <a:ext cx="838080" cy="9144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33" descr="BS00580_"/>
          <p:cNvPicPr/>
          <p:nvPr/>
        </p:nvPicPr>
        <p:blipFill>
          <a:blip r:embed="rId2"/>
          <a:stretch/>
        </p:blipFill>
        <p:spPr>
          <a:xfrm>
            <a:off x="2590920" y="5334120"/>
            <a:ext cx="1295280" cy="1090440"/>
          </a:xfrm>
          <a:prstGeom prst="rect">
            <a:avLst/>
          </a:prstGeom>
          <a:ln w="0">
            <a:noFill/>
          </a:ln>
        </p:spPr>
      </p:pic>
      <p:sp>
        <p:nvSpPr>
          <p:cNvPr id="150" name="Documents"/>
          <p:cNvSpPr/>
          <p:nvPr/>
        </p:nvSpPr>
        <p:spPr>
          <a:xfrm>
            <a:off x="5562720" y="5029200"/>
            <a:ext cx="914400" cy="1200240"/>
          </a:xfrm>
          <a:custGeom>
            <a:avLst/>
            <a:gdLst>
              <a:gd name="textAreaLeft" fmla="*/ 69480 w 914400"/>
              <a:gd name="textAreaRight" fmla="*/ 699480 w 914400"/>
              <a:gd name="textAreaTop" fmla="*/ 231480 h 1200240"/>
              <a:gd name="textAreaBottom" fmla="*/ 962280 h 12002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039"/>
          <p:cNvGrpSpPr/>
          <p:nvPr/>
        </p:nvGrpSpPr>
        <p:grpSpPr>
          <a:xfrm>
            <a:off x="2133720" y="3200400"/>
            <a:ext cx="838080" cy="838080"/>
            <a:chOff x="2133720" y="3200400"/>
            <a:chExt cx="838080" cy="838080"/>
          </a:xfrm>
        </p:grpSpPr>
        <p:sp>
          <p:nvSpPr>
            <p:cNvPr id="152" name="Oval 1037"/>
            <p:cNvSpPr/>
            <p:nvPr/>
          </p:nvSpPr>
          <p:spPr>
            <a:xfrm>
              <a:off x="2133720" y="3200400"/>
              <a:ext cx="83808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1038"/>
            <p:cNvSpPr/>
            <p:nvPr/>
          </p:nvSpPr>
          <p:spPr>
            <a:xfrm>
              <a:off x="2438280" y="350532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1040"/>
          <p:cNvSpPr/>
          <p:nvPr/>
        </p:nvSpPr>
        <p:spPr>
          <a:xfrm>
            <a:off x="1905120" y="3962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41"/>
          <p:cNvSpPr/>
          <p:nvPr/>
        </p:nvSpPr>
        <p:spPr>
          <a:xfrm>
            <a:off x="5410080" y="2362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42"/>
          <p:cNvSpPr/>
          <p:nvPr/>
        </p:nvSpPr>
        <p:spPr>
          <a:xfrm>
            <a:off x="6400800" y="3092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43"/>
          <p:cNvSpPr/>
          <p:nvPr/>
        </p:nvSpPr>
        <p:spPr>
          <a:xfrm>
            <a:off x="5562720" y="6248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44"/>
          <p:cNvSpPr/>
          <p:nvPr/>
        </p:nvSpPr>
        <p:spPr>
          <a:xfrm>
            <a:off x="2133720" y="61722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9:34:05Z</dcterms:created>
  <dc:creator>Rafa</dc:creator>
  <dc:description/>
  <dc:language>en-US</dc:language>
  <cp:lastModifiedBy>inma</cp:lastModifiedBy>
  <dcterms:modified xsi:type="dcterms:W3CDTF">2017-10-24T17:05:52Z</dcterms:modified>
  <cp:revision>42</cp:revision>
  <dc:subject/>
  <dc:title>LAS NUEVAS TECNOLOGÍAS EN INVESTIGACIÓN DEL MEDIO AMBIENTE</dc:title>
</cp:coreProperties>
</file>